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313-804B-4096-8295-F60866E3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E8C-A15B-4CD7-8B33-7F931022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65D-9177-49B5-AD3D-3EE91A95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F88-D2C1-4E84-8063-F20BAC6B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0182-E903-440E-A813-8694FD07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8B65-2B2B-4623-A51C-3F7D833D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1267-B54D-422D-ACD2-B4EABF60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5F90-07ED-4333-AE09-BC9208DE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038D-C377-4BEC-84AB-1F9AA897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87FB-6657-420D-954F-8C92E287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7597-CC93-4B5A-BDE1-99AF3648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C2F-BD00-4815-937B-64F1A83D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79EE-4791-4CE5-81F9-45EF3F5A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1C6C-3D3A-437C-90F3-E2E4D87A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1E8F-514A-45C1-B824-A972C8C4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5C27-1C26-4887-B6EA-95CD2AF6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8499-1520-4502-95FC-622C6809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3C9B-0EFC-45A5-874D-77225C6F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CF66-4328-4B42-B620-4336A784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9AA5C-806E-4D72-8A64-0DEC08A8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D3871-4560-45DC-8782-C80B7830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2199-E1EF-456D-B726-86E96F35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37A-07A0-4070-9B42-BBA6ED00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14E7-926C-44D1-9FCB-53088BB9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8154-B42F-4D7D-B371-03C50B1C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91BE-7CBE-4FB9-81EC-590800A3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6D4CD-FA00-481C-AA8E-AAD53B3D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2DF3-2703-4C2F-8BE7-BB3CD97E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EFCE5-9E08-4D15-B74A-82C7EF8D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18B09-D20B-4DF1-BD36-06088F89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12A-C998-4D82-906C-6C7440F2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802-6D91-42F8-A24E-CEAD816E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6C1-7389-4A4E-9CFF-99BF618C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FCC-CE5A-437C-8AA4-A356F6D8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BBA-C634-48C7-8389-BE9422F4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498-945B-49B6-9E28-00A422E3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D634-F9BA-4A50-9B42-1B371F113F5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34 Rectángulo"/>
          <p:cNvSpPr/>
          <p:nvPr/>
        </p:nvSpPr>
        <p:spPr>
          <a:xfrm>
            <a:off x="0" y="5950080"/>
            <a:ext cx="395280" cy="18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5 Rectángulo"/>
          <p:cNvSpPr/>
          <p:nvPr/>
        </p:nvSpPr>
        <p:spPr>
          <a:xfrm>
            <a:off x="0" y="623736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36 Rectángulo"/>
          <p:cNvSpPr/>
          <p:nvPr/>
        </p:nvSpPr>
        <p:spPr>
          <a:xfrm>
            <a:off x="0" y="655308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880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48720" y="1746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53400" y="604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261000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48720" y="3473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53400" y="433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5202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C:\Users\Lalis\Desktop\Figura.png"/>
          <p:cNvPicPr/>
          <p:nvPr/>
        </p:nvPicPr>
        <p:blipFill>
          <a:blip r:embed="rId9"/>
          <a:stretch/>
        </p:blipFill>
        <p:spPr>
          <a:xfrm>
            <a:off x="8751960" y="52560"/>
            <a:ext cx="282600" cy="739440"/>
          </a:xfrm>
          <a:prstGeom prst="rect">
            <a:avLst/>
          </a:prstGeom>
          <a:ln w="0">
            <a:noFill/>
          </a:ln>
        </p:spPr>
      </p:pic>
      <p:sp>
        <p:nvSpPr>
          <p:cNvPr id="422" name="32 Rectángulo"/>
          <p:cNvSpPr/>
          <p:nvPr/>
        </p:nvSpPr>
        <p:spPr>
          <a:xfrm>
            <a:off x="0" y="422280"/>
            <a:ext cx="6372360" cy="50472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34 Rectángulo"/>
          <p:cNvSpPr/>
          <p:nvPr/>
        </p:nvSpPr>
        <p:spPr>
          <a:xfrm>
            <a:off x="0" y="5950080"/>
            <a:ext cx="395280" cy="18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35 Rectángulo"/>
          <p:cNvSpPr/>
          <p:nvPr/>
        </p:nvSpPr>
        <p:spPr>
          <a:xfrm>
            <a:off x="0" y="623736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36 Rectángulo"/>
          <p:cNvSpPr/>
          <p:nvPr/>
        </p:nvSpPr>
        <p:spPr>
          <a:xfrm>
            <a:off x="0" y="655308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880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48720" y="1746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53400" y="604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261000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48720" y="3473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53400" y="433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5202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C:\Users\Lalis\Desktop\Figura.png"/>
          <p:cNvPicPr/>
          <p:nvPr/>
        </p:nvPicPr>
        <p:blipFill>
          <a:blip r:embed="rId9"/>
          <a:stretch/>
        </p:blipFill>
        <p:spPr>
          <a:xfrm>
            <a:off x="8751960" y="52560"/>
            <a:ext cx="282600" cy="739440"/>
          </a:xfrm>
          <a:prstGeom prst="rect">
            <a:avLst/>
          </a:prstGeom>
          <a:ln w="0">
            <a:noFill/>
          </a:ln>
        </p:spPr>
      </p:pic>
      <p:sp>
        <p:nvSpPr>
          <p:cNvPr id="472" name="32 Rectángulo"/>
          <p:cNvSpPr/>
          <p:nvPr/>
        </p:nvSpPr>
        <p:spPr>
          <a:xfrm>
            <a:off x="0" y="422280"/>
            <a:ext cx="6372360" cy="50472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34 Rectángulo"/>
          <p:cNvSpPr/>
          <p:nvPr/>
        </p:nvSpPr>
        <p:spPr>
          <a:xfrm>
            <a:off x="0" y="5950080"/>
            <a:ext cx="395280" cy="18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35 Rectángulo"/>
          <p:cNvSpPr/>
          <p:nvPr/>
        </p:nvSpPr>
        <p:spPr>
          <a:xfrm>
            <a:off x="0" y="623736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36 Rectángulo"/>
          <p:cNvSpPr/>
          <p:nvPr/>
        </p:nvSpPr>
        <p:spPr>
          <a:xfrm>
            <a:off x="0" y="655308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880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48720" y="1746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53400" y="604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261000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48720" y="3473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53400" y="433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5202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Lalis\Desktop\Figura.png"/>
          <p:cNvPicPr/>
          <p:nvPr/>
        </p:nvPicPr>
        <p:blipFill>
          <a:blip r:embed="rId9"/>
          <a:stretch/>
        </p:blipFill>
        <p:spPr>
          <a:xfrm>
            <a:off x="8751960" y="52560"/>
            <a:ext cx="282600" cy="739440"/>
          </a:xfrm>
          <a:prstGeom prst="rect">
            <a:avLst/>
          </a:prstGeom>
          <a:ln w="0">
            <a:noFill/>
          </a:ln>
        </p:spPr>
      </p:pic>
      <p:sp>
        <p:nvSpPr>
          <p:cNvPr id="522" name="32 Rectángulo"/>
          <p:cNvSpPr/>
          <p:nvPr/>
        </p:nvSpPr>
        <p:spPr>
          <a:xfrm>
            <a:off x="0" y="422280"/>
            <a:ext cx="6372360" cy="50472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958D-B4DD-4912-9F42-F109AD9397A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D933-1797-4EB3-B2BE-94FDCB00C83C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4 Rectángulo"/>
          <p:cNvSpPr/>
          <p:nvPr/>
        </p:nvSpPr>
        <p:spPr>
          <a:xfrm>
            <a:off x="0" y="5950080"/>
            <a:ext cx="395280" cy="18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5 Rectángulo"/>
          <p:cNvSpPr/>
          <p:nvPr/>
        </p:nvSpPr>
        <p:spPr>
          <a:xfrm>
            <a:off x="0" y="623736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6 Rectángulo"/>
          <p:cNvSpPr/>
          <p:nvPr/>
        </p:nvSpPr>
        <p:spPr>
          <a:xfrm>
            <a:off x="0" y="655308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880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48720" y="1746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53400" y="604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261000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48720" y="3473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53400" y="433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5202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Lalis\Desktop\Figura.png"/>
          <p:cNvPicPr/>
          <p:nvPr/>
        </p:nvPicPr>
        <p:blipFill>
          <a:blip r:embed="rId9"/>
          <a:stretch/>
        </p:blipFill>
        <p:spPr>
          <a:xfrm>
            <a:off x="8751960" y="52560"/>
            <a:ext cx="282600" cy="739440"/>
          </a:xfrm>
          <a:prstGeom prst="rect">
            <a:avLst/>
          </a:prstGeom>
          <a:ln w="0">
            <a:noFill/>
          </a:ln>
        </p:spPr>
      </p:pic>
      <p:sp>
        <p:nvSpPr>
          <p:cNvPr id="134" name="32 Rectángulo"/>
          <p:cNvSpPr/>
          <p:nvPr/>
        </p:nvSpPr>
        <p:spPr>
          <a:xfrm>
            <a:off x="0" y="422280"/>
            <a:ext cx="6372360" cy="50472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4 Rectángulo"/>
          <p:cNvSpPr/>
          <p:nvPr/>
        </p:nvSpPr>
        <p:spPr>
          <a:xfrm>
            <a:off x="0" y="5950080"/>
            <a:ext cx="395280" cy="18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5 Rectángulo"/>
          <p:cNvSpPr/>
          <p:nvPr/>
        </p:nvSpPr>
        <p:spPr>
          <a:xfrm>
            <a:off x="0" y="623736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6 Rectángulo"/>
          <p:cNvSpPr/>
          <p:nvPr/>
        </p:nvSpPr>
        <p:spPr>
          <a:xfrm>
            <a:off x="0" y="655308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880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48720" y="1746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53400" y="604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261000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48720" y="3473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53400" y="433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5202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Lalis\Desktop\Figura.png"/>
          <p:cNvPicPr/>
          <p:nvPr/>
        </p:nvPicPr>
        <p:blipFill>
          <a:blip r:embed="rId9"/>
          <a:stretch/>
        </p:blipFill>
        <p:spPr>
          <a:xfrm>
            <a:off x="8751960" y="52560"/>
            <a:ext cx="282600" cy="739440"/>
          </a:xfrm>
          <a:prstGeom prst="rect">
            <a:avLst/>
          </a:prstGeom>
          <a:ln w="0">
            <a:noFill/>
          </a:ln>
        </p:spPr>
      </p:pic>
      <p:sp>
        <p:nvSpPr>
          <p:cNvPr id="184" name="32 Rectángulo"/>
          <p:cNvSpPr/>
          <p:nvPr/>
        </p:nvSpPr>
        <p:spPr>
          <a:xfrm>
            <a:off x="0" y="422280"/>
            <a:ext cx="6372360" cy="50472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4 Rectángulo"/>
          <p:cNvSpPr/>
          <p:nvPr/>
        </p:nvSpPr>
        <p:spPr>
          <a:xfrm>
            <a:off x="0" y="5950080"/>
            <a:ext cx="395280" cy="18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35 Rectángulo"/>
          <p:cNvSpPr/>
          <p:nvPr/>
        </p:nvSpPr>
        <p:spPr>
          <a:xfrm>
            <a:off x="0" y="623736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36 Rectángulo"/>
          <p:cNvSpPr/>
          <p:nvPr/>
        </p:nvSpPr>
        <p:spPr>
          <a:xfrm>
            <a:off x="0" y="655308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880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48720" y="1746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53400" y="604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261000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48720" y="3473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53400" y="433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5202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Lalis\Desktop\Figura.png"/>
          <p:cNvPicPr/>
          <p:nvPr/>
        </p:nvPicPr>
        <p:blipFill>
          <a:blip r:embed="rId9"/>
          <a:stretch/>
        </p:blipFill>
        <p:spPr>
          <a:xfrm>
            <a:off x="8751960" y="52560"/>
            <a:ext cx="282600" cy="739440"/>
          </a:xfrm>
          <a:prstGeom prst="rect">
            <a:avLst/>
          </a:prstGeom>
          <a:ln w="0">
            <a:noFill/>
          </a:ln>
        </p:spPr>
      </p:pic>
      <p:sp>
        <p:nvSpPr>
          <p:cNvPr id="234" name="32 Rectángulo"/>
          <p:cNvSpPr/>
          <p:nvPr/>
        </p:nvSpPr>
        <p:spPr>
          <a:xfrm>
            <a:off x="0" y="422280"/>
            <a:ext cx="6372360" cy="50472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34 Rectángulo"/>
          <p:cNvSpPr/>
          <p:nvPr/>
        </p:nvSpPr>
        <p:spPr>
          <a:xfrm>
            <a:off x="0" y="5950080"/>
            <a:ext cx="395280" cy="18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35 Rectángulo"/>
          <p:cNvSpPr/>
          <p:nvPr/>
        </p:nvSpPr>
        <p:spPr>
          <a:xfrm>
            <a:off x="0" y="623736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36 Rectángulo"/>
          <p:cNvSpPr/>
          <p:nvPr/>
        </p:nvSpPr>
        <p:spPr>
          <a:xfrm>
            <a:off x="0" y="655308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880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48720" y="1746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53400" y="604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261000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48720" y="3473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53400" y="433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5202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C:\Users\Lalis\Desktop\Figura.png"/>
          <p:cNvPicPr/>
          <p:nvPr/>
        </p:nvPicPr>
        <p:blipFill>
          <a:blip r:embed="rId9"/>
          <a:stretch/>
        </p:blipFill>
        <p:spPr>
          <a:xfrm>
            <a:off x="8751960" y="52560"/>
            <a:ext cx="282600" cy="739440"/>
          </a:xfrm>
          <a:prstGeom prst="rect">
            <a:avLst/>
          </a:prstGeom>
          <a:ln w="0">
            <a:noFill/>
          </a:ln>
        </p:spPr>
      </p:pic>
      <p:sp>
        <p:nvSpPr>
          <p:cNvPr id="322" name="32 Rectángulo"/>
          <p:cNvSpPr/>
          <p:nvPr/>
        </p:nvSpPr>
        <p:spPr>
          <a:xfrm>
            <a:off x="0" y="422280"/>
            <a:ext cx="6372360" cy="50472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34 Rectángulo"/>
          <p:cNvSpPr/>
          <p:nvPr/>
        </p:nvSpPr>
        <p:spPr>
          <a:xfrm>
            <a:off x="0" y="5950080"/>
            <a:ext cx="395280" cy="18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35 Rectángulo"/>
          <p:cNvSpPr/>
          <p:nvPr/>
        </p:nvSpPr>
        <p:spPr>
          <a:xfrm>
            <a:off x="0" y="623736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36 Rectángulo"/>
          <p:cNvSpPr/>
          <p:nvPr/>
        </p:nvSpPr>
        <p:spPr>
          <a:xfrm>
            <a:off x="0" y="655308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880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48720" y="1746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53400" y="604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261000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48720" y="3473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53400" y="433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5202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C:\Users\Lalis\Desktop\Figura.png"/>
          <p:cNvPicPr/>
          <p:nvPr/>
        </p:nvPicPr>
        <p:blipFill>
          <a:blip r:embed="rId9"/>
          <a:stretch/>
        </p:blipFill>
        <p:spPr>
          <a:xfrm>
            <a:off x="8751960" y="52560"/>
            <a:ext cx="282600" cy="739440"/>
          </a:xfrm>
          <a:prstGeom prst="rect">
            <a:avLst/>
          </a:prstGeom>
          <a:ln w="0">
            <a:noFill/>
          </a:ln>
        </p:spPr>
      </p:pic>
      <p:sp>
        <p:nvSpPr>
          <p:cNvPr id="372" name="32 Rectángulo"/>
          <p:cNvSpPr/>
          <p:nvPr/>
        </p:nvSpPr>
        <p:spPr>
          <a:xfrm>
            <a:off x="0" y="422280"/>
            <a:ext cx="6372360" cy="50472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C:\Users\Lalis\Desktop\Imagen.png"/>
          <p:cNvPicPr/>
          <p:nvPr/>
        </p:nvPicPr>
        <p:blipFill>
          <a:blip r:embed="rId1"/>
          <a:srcRect l="0" t="0" r="0" b="60912"/>
          <a:stretch/>
        </p:blipFill>
        <p:spPr>
          <a:xfrm>
            <a:off x="1332000" y="476280"/>
            <a:ext cx="6253200" cy="18003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C:\Users\Lalis\Desktop\Trabajo\Imagenes\infometrika (1).png"/>
          <p:cNvPicPr/>
          <p:nvPr/>
        </p:nvPicPr>
        <p:blipFill>
          <a:blip r:embed="rId2"/>
          <a:stretch/>
        </p:blipFill>
        <p:spPr>
          <a:xfrm>
            <a:off x="4789440" y="4913280"/>
            <a:ext cx="3143160" cy="608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C:\Users\Lalis\Desktop\Cifras.png"/>
          <p:cNvPicPr/>
          <p:nvPr/>
        </p:nvPicPr>
        <p:blipFill>
          <a:blip r:embed="rId3"/>
          <a:stretch/>
        </p:blipFill>
        <p:spPr>
          <a:xfrm>
            <a:off x="1476360" y="4071960"/>
            <a:ext cx="2711520" cy="2014560"/>
          </a:xfrm>
          <a:prstGeom prst="rect">
            <a:avLst/>
          </a:prstGeom>
          <a:ln w="0">
            <a:noFill/>
          </a:ln>
        </p:spPr>
      </p:pic>
      <p:sp>
        <p:nvSpPr>
          <p:cNvPr id="564" name="34 Rectángulo"/>
          <p:cNvSpPr/>
          <p:nvPr/>
        </p:nvSpPr>
        <p:spPr>
          <a:xfrm>
            <a:off x="0" y="5950080"/>
            <a:ext cx="395280" cy="18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35 Rectángulo"/>
          <p:cNvSpPr/>
          <p:nvPr/>
        </p:nvSpPr>
        <p:spPr>
          <a:xfrm>
            <a:off x="0" y="623736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36 Rectángulo"/>
          <p:cNvSpPr/>
          <p:nvPr/>
        </p:nvSpPr>
        <p:spPr>
          <a:xfrm>
            <a:off x="0" y="655308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48720" y="880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1746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53400" y="604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48720" y="261000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3473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C:\Users\Lalis\Desktop\Figura.png"/>
          <p:cNvPicPr/>
          <p:nvPr/>
        </p:nvPicPr>
        <p:blipFill>
          <a:blip r:embed="rId9"/>
          <a:stretch/>
        </p:blipFill>
        <p:spPr>
          <a:xfrm>
            <a:off x="8753400" y="4336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" descr="C:\Users\Lalis\Desktop\Figura.png"/>
          <p:cNvPicPr/>
          <p:nvPr/>
        </p:nvPicPr>
        <p:blipFill>
          <a:blip r:embed="rId10"/>
          <a:stretch/>
        </p:blipFill>
        <p:spPr>
          <a:xfrm>
            <a:off x="8748720" y="5202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C:\Users\Lalis\Desktop\Figura.png"/>
          <p:cNvPicPr/>
          <p:nvPr/>
        </p:nvPicPr>
        <p:blipFill>
          <a:blip r:embed="rId11"/>
          <a:stretch/>
        </p:blipFill>
        <p:spPr>
          <a:xfrm>
            <a:off x="8751960" y="52560"/>
            <a:ext cx="282600" cy="739440"/>
          </a:xfrm>
          <a:prstGeom prst="rect">
            <a:avLst/>
          </a:prstGeom>
          <a:ln w="0">
            <a:noFill/>
          </a:ln>
        </p:spPr>
      </p:pic>
      <p:sp>
        <p:nvSpPr>
          <p:cNvPr id="575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29CA-4EAB-454B-A4CB-2ACB74A3CF0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042920" y="2276640"/>
            <a:ext cx="706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404040"/>
                </a:solidFill>
                <a:latin typeface="Calibri"/>
              </a:rPr>
              <a:t>CENTRO DE CONTACTO CIUDADANO – 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 u="sng">
                <a:solidFill>
                  <a:srgbClr val="404040"/>
                </a:solidFill>
                <a:uFillTx/>
                <a:latin typeface="Calibri"/>
              </a:rPr>
              <a:t>Informe C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1 CuadroTexto"/>
          <p:cNvSpPr/>
          <p:nvPr/>
        </p:nvSpPr>
        <p:spPr>
          <a:xfrm>
            <a:off x="5076720" y="59500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Bogotá, Diciembre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C:\Users\Lalis\Desktop\Figura.png"/>
          <p:cNvPicPr/>
          <p:nvPr/>
        </p:nvPicPr>
        <p:blipFill>
          <a:blip r:embed="rId1"/>
          <a:stretch/>
        </p:blipFill>
        <p:spPr>
          <a:xfrm>
            <a:off x="8748720" y="907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1773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53400" y="6073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48720" y="2637000"/>
            <a:ext cx="282600" cy="7394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6073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48720" y="3500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48720" y="6073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53400" y="436572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" descr="C:\Users\Lalis\Desktop\Figura.png"/>
          <p:cNvPicPr/>
          <p:nvPr/>
        </p:nvPicPr>
        <p:blipFill>
          <a:blip r:embed="rId9"/>
          <a:stretch/>
        </p:blipFill>
        <p:spPr>
          <a:xfrm>
            <a:off x="8748720" y="522936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C:\Users\Lalis\Desktop\Figura.png"/>
          <p:cNvPicPr/>
          <p:nvPr/>
        </p:nvPicPr>
        <p:blipFill>
          <a:blip r:embed="rId10"/>
          <a:stretch/>
        </p:blipFill>
        <p:spPr>
          <a:xfrm>
            <a:off x="8748720" y="6073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C:\Users\Lalis\Desktop\Figura.png"/>
          <p:cNvPicPr/>
          <p:nvPr/>
        </p:nvPicPr>
        <p:blipFill>
          <a:blip r:embed="rId11"/>
          <a:stretch/>
        </p:blipFill>
        <p:spPr>
          <a:xfrm>
            <a:off x="8748720" y="6093000"/>
            <a:ext cx="282600" cy="7394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" descr="C:\Users\Lalis\Desktop\Figura.png"/>
          <p:cNvPicPr/>
          <p:nvPr/>
        </p:nvPicPr>
        <p:blipFill>
          <a:blip r:embed="rId12"/>
          <a:stretch/>
        </p:blipFill>
        <p:spPr>
          <a:xfrm>
            <a:off x="8748720" y="44280"/>
            <a:ext cx="282600" cy="739800"/>
          </a:xfrm>
          <a:prstGeom prst="rect">
            <a:avLst/>
          </a:prstGeom>
          <a:ln w="0">
            <a:noFill/>
          </a:ln>
        </p:spPr>
      </p:pic>
      <p:sp>
        <p:nvSpPr>
          <p:cNvPr id="590" name="27 Rectángulo"/>
          <p:cNvSpPr/>
          <p:nvPr/>
        </p:nvSpPr>
        <p:spPr>
          <a:xfrm>
            <a:off x="108000" y="6021360"/>
            <a:ext cx="395280" cy="189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28 Rectángulo"/>
          <p:cNvSpPr/>
          <p:nvPr/>
        </p:nvSpPr>
        <p:spPr>
          <a:xfrm>
            <a:off x="108000" y="630864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29 Rectángulo"/>
          <p:cNvSpPr/>
          <p:nvPr/>
        </p:nvSpPr>
        <p:spPr>
          <a:xfrm>
            <a:off x="108000" y="662472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32 Rectángulo"/>
          <p:cNvSpPr/>
          <p:nvPr/>
        </p:nvSpPr>
        <p:spPr>
          <a:xfrm>
            <a:off x="0" y="404640"/>
            <a:ext cx="5940360" cy="50328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33 CuadroTexto"/>
          <p:cNvSpPr/>
          <p:nvPr/>
        </p:nvSpPr>
        <p:spPr>
          <a:xfrm>
            <a:off x="45360" y="40464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ALLAZ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1 CuadroTexto"/>
          <p:cNvSpPr/>
          <p:nvPr/>
        </p:nvSpPr>
        <p:spPr>
          <a:xfrm>
            <a:off x="995400" y="1413000"/>
            <a:ext cx="7105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(73%)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e los ciudadanos evalúan de manera positiva su contacto con el CCC, en donde para calificar excelente el servicio proponen una atención más eficiente 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(33%)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y la respuesta oportuna y clara 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(35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os atributos más destacados en la evaluación son la amabilidad del personal 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(85%)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y el horario de atención (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80%),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or otra parte los peores evaluados fueron la solución de la inquietud o tramite (64%) y el tiempo de espera 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(65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dicionalmente preferirían la atención de una operadora 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(71%)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que un menú de opciones para elegir y mensajes de interés mientras esperan 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(68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C:\Users\Lalis\Desktop\Figura.png"/>
          <p:cNvPicPr/>
          <p:nvPr/>
        </p:nvPicPr>
        <p:blipFill>
          <a:blip r:embed="rId1"/>
          <a:stretch/>
        </p:blipFill>
        <p:spPr>
          <a:xfrm>
            <a:off x="8748720" y="907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1773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53400" y="6073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48720" y="2637000"/>
            <a:ext cx="282600" cy="7394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3500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53400" y="436572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48720" y="522936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44280"/>
            <a:ext cx="282600" cy="739800"/>
          </a:xfrm>
          <a:prstGeom prst="rect">
            <a:avLst/>
          </a:prstGeom>
          <a:ln w="0">
            <a:noFill/>
          </a:ln>
        </p:spPr>
      </p:pic>
      <p:sp>
        <p:nvSpPr>
          <p:cNvPr id="604" name="27 Rectángulo"/>
          <p:cNvSpPr/>
          <p:nvPr/>
        </p:nvSpPr>
        <p:spPr>
          <a:xfrm>
            <a:off x="108000" y="6021360"/>
            <a:ext cx="395280" cy="189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28 Rectángulo"/>
          <p:cNvSpPr/>
          <p:nvPr/>
        </p:nvSpPr>
        <p:spPr>
          <a:xfrm>
            <a:off x="108000" y="630864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29 Rectángulo"/>
          <p:cNvSpPr/>
          <p:nvPr/>
        </p:nvSpPr>
        <p:spPr>
          <a:xfrm>
            <a:off x="108000" y="662472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95280" y="2924280"/>
          <a:ext cx="3691080" cy="1644480"/>
        </p:xfrm>
        <a:graphic>
          <a:graphicData uri="http://schemas.openxmlformats.org/drawingml/2006/table">
            <a:tbl>
              <a:tblPr/>
              <a:tblGrid>
                <a:gridCol w="2933640"/>
                <a:gridCol w="379440"/>
                <a:gridCol w="378000"/>
              </a:tblGrid>
              <a:tr h="225360">
                <a:tc rowSpan="2">
                  <a:txBody>
                    <a:bodyPr lIns="11880" rIns="11880" tIns="118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B: TTB: Excelente + Muy bueno</a:t>
                      </a:r>
                      <a:br>
                        <a:rPr sz="1400"/>
                      </a:b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3B: Excelente + Muy bueno + Bue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 gridSpan="2">
                  <a:txBody>
                    <a:bodyPr lIns="11880" rIns="11880" tIns="118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880" rIns="11880" tIns="118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880" rIns="11880" tIns="118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3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80640">
                <a:tc>
                  <a:txBody>
                    <a:bodyPr lIns="11880" rIns="11880" tIns="118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  En general como califica usted la calidad del servicio que brinda del Centro de Contacto Ciudada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11880" rIns="11880" tIns="118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11880" rIns="11880" tIns="118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4643280" y="1197000"/>
          <a:ext cx="3672000" cy="5473800"/>
        </p:xfrm>
        <a:graphic>
          <a:graphicData uri="http://schemas.openxmlformats.org/drawingml/2006/table">
            <a:tbl>
              <a:tblPr/>
              <a:tblGrid>
                <a:gridCol w="3095640"/>
                <a:gridCol w="576360"/>
              </a:tblGrid>
              <a:tr h="209520">
                <a:tc rowSpan="2"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2</a:t>
                      </a: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¿Qué aspectos se deberían tener en cuenta  para que usted califique como excelentes los servicios ofrecidos por el Centro de Contacto al Ciudadano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80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422640">
                <a:tc>
                  <a:txBody>
                    <a:bodyPr lIns="11160" rIns="11160" tIns="111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DEN RESPUESTA OPORTUNAMENTE Y QUE SEAN CLAR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317160">
                <a:tc>
                  <a:txBody>
                    <a:bodyPr lIns="11160" rIns="11160" tIns="111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ON EFICIEN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422640">
                <a:tc>
                  <a:txBody>
                    <a:bodyPr lIns="11160" rIns="11160" tIns="111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 INFORMACION DE LAS ENTIDADES Y ACTUALIZ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317160">
                <a:tc>
                  <a:txBody>
                    <a:bodyPr lIns="11160" rIns="11160" tIns="111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NU  CONFUNDE, FACILIDAD DE ACCE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315360">
                <a:tc>
                  <a:txBody>
                    <a:bodyPr lIns="11160" rIns="11160" tIns="111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JORAR SEÑAL Y CONEC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317160">
                <a:tc>
                  <a:txBody>
                    <a:bodyPr lIns="11160" rIns="11160" tIns="111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MEN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422640">
                <a:tc>
                  <a:txBody>
                    <a:bodyPr lIns="11160" rIns="11160" tIns="111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STAR LLAMADAS Y NO DEJAR ESPERANDO EN LIN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422640">
                <a:tc>
                  <a:txBody>
                    <a:bodyPr lIns="11160" rIns="11160" tIns="111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JORAR LA ACTITUD DE LOS FUNCIONARIOS/MAS AMABIL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317160">
                <a:tc>
                  <a:txBody>
                    <a:bodyPr lIns="11160" rIns="11160" tIns="111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LACE DIRECTO  CON LA PERSONA REQUERI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422640">
                <a:tc>
                  <a:txBody>
                    <a:bodyPr lIns="11160" rIns="11160" tIns="111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IZAR LAS PAGINAS CON INFORMACIÓN DE CONTAC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422640">
                <a:tc>
                  <a:txBody>
                    <a:bodyPr lIns="11160" rIns="11160" tIns="111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IDAD  PARA FOMENTAR USO INTERNET (PÁGINA, CORREO, CHA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340920">
                <a:tc>
                  <a:txBody>
                    <a:bodyPr lIns="11160" rIns="11160" tIns="111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COMPROMISO CON EL CIUDAD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" marR="111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sp>
        <p:nvSpPr>
          <p:cNvPr id="609" name="32 Rectángulo"/>
          <p:cNvSpPr/>
          <p:nvPr/>
        </p:nvSpPr>
        <p:spPr>
          <a:xfrm>
            <a:off x="0" y="404640"/>
            <a:ext cx="5724360" cy="50328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33 CuadroTexto"/>
          <p:cNvSpPr/>
          <p:nvPr/>
        </p:nvSpPr>
        <p:spPr>
          <a:xfrm>
            <a:off x="31680" y="40464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C:\Users\Lalis\Desktop\Figura.png"/>
          <p:cNvPicPr/>
          <p:nvPr/>
        </p:nvPicPr>
        <p:blipFill>
          <a:blip r:embed="rId1"/>
          <a:stretch/>
        </p:blipFill>
        <p:spPr>
          <a:xfrm>
            <a:off x="8748720" y="907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1773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53400" y="6073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48720" y="2637000"/>
            <a:ext cx="282600" cy="739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6073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48720" y="3500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53400" y="436572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522936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C:\Users\Lalis\Desktop\Figura.png"/>
          <p:cNvPicPr/>
          <p:nvPr/>
        </p:nvPicPr>
        <p:blipFill>
          <a:blip r:embed="rId9"/>
          <a:stretch/>
        </p:blipFill>
        <p:spPr>
          <a:xfrm>
            <a:off x="8748720" y="44280"/>
            <a:ext cx="282600" cy="739800"/>
          </a:xfrm>
          <a:prstGeom prst="rect">
            <a:avLst/>
          </a:prstGeom>
          <a:ln w="0">
            <a:noFill/>
          </a:ln>
        </p:spPr>
      </p:pic>
      <p:sp>
        <p:nvSpPr>
          <p:cNvPr id="620" name="27 Rectángulo"/>
          <p:cNvSpPr/>
          <p:nvPr/>
        </p:nvSpPr>
        <p:spPr>
          <a:xfrm>
            <a:off x="108000" y="6021360"/>
            <a:ext cx="395280" cy="189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28 Rectángulo"/>
          <p:cNvSpPr/>
          <p:nvPr/>
        </p:nvSpPr>
        <p:spPr>
          <a:xfrm>
            <a:off x="108000" y="630864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29 Rectángulo"/>
          <p:cNvSpPr/>
          <p:nvPr/>
        </p:nvSpPr>
        <p:spPr>
          <a:xfrm>
            <a:off x="108000" y="662472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3635280" y="1341360"/>
          <a:ext cx="3610080" cy="2325600"/>
        </p:xfrm>
        <a:graphic>
          <a:graphicData uri="http://schemas.openxmlformats.org/drawingml/2006/table">
            <a:tbl>
              <a:tblPr/>
              <a:tblGrid>
                <a:gridCol w="2868840"/>
                <a:gridCol w="371520"/>
                <a:gridCol w="369720"/>
              </a:tblGrid>
              <a:tr h="221040">
                <a:tc rowSpan="2">
                  <a:txBody>
                    <a:bodyPr lIns="11520" rIns="11520" tIns="115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B: Extremadamente probable + Muy probable T3B:  Extremadamente probable + Muy probable + Algo probable</a:t>
                      </a:r>
                      <a:br>
                        <a:rPr sz="1300"/>
                      </a:b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2">
                  <a:txBody>
                    <a:bodyPr lIns="11520" rIns="11520" tIns="115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115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1520" rIns="11520" tIns="115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3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1102680">
                <a:tc>
                  <a:txBody>
                    <a:bodyPr lIns="11520" rIns="11520" tIns="115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3  ¿Qué tan probable es que Usted recomiende a alguien llamar al Centro de Contacto Ciudadano para resolver alguna duda relacionada con el estado? Usted diría que es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11520" rIns="11520" tIns="115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11520" rIns="11520" tIns="115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sp>
        <p:nvSpPr>
          <p:cNvPr id="624" name="33 Rectángulo"/>
          <p:cNvSpPr/>
          <p:nvPr/>
        </p:nvSpPr>
        <p:spPr>
          <a:xfrm>
            <a:off x="468360" y="1916280"/>
            <a:ext cx="2698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3  ¿Qué tan probable es que Usted recomiende a alguien llamar al Centro de Contacto Ciudadano para resolver alguna duda relacionada con el estado? Us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187280" y="4292640"/>
          <a:ext cx="5832720" cy="2165400"/>
        </p:xfrm>
        <a:graphic>
          <a:graphicData uri="http://schemas.openxmlformats.org/drawingml/2006/table">
            <a:tbl>
              <a:tblPr/>
              <a:tblGrid>
                <a:gridCol w="4635720"/>
                <a:gridCol w="598320"/>
                <a:gridCol w="598680"/>
              </a:tblGrid>
              <a:tr h="241560">
                <a:tc rowSpan="2"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B: Extremadamente probable + Muy probable T3B:  Extremadamente probable + Muy probable + Algo probable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 gridSpan="2"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3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997560"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4  ¿Qué tan probable es que Usted vuelva a contactar el Centro de Contacto Ciudadano si tuviera otra consulta? Usted diría que 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sp>
        <p:nvSpPr>
          <p:cNvPr id="626" name="35 Rectángulo"/>
          <p:cNvSpPr/>
          <p:nvPr/>
        </p:nvSpPr>
        <p:spPr>
          <a:xfrm>
            <a:off x="0" y="404640"/>
            <a:ext cx="5724360" cy="50328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C:\Users\Lalis\Desktop\Figura.png"/>
          <p:cNvPicPr/>
          <p:nvPr/>
        </p:nvPicPr>
        <p:blipFill>
          <a:blip r:embed="rId1"/>
          <a:stretch/>
        </p:blipFill>
        <p:spPr>
          <a:xfrm>
            <a:off x="8748720" y="907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1773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53400" y="6073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48720" y="2637000"/>
            <a:ext cx="282600" cy="7394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3500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53400" y="436572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48720" y="522936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44280"/>
            <a:ext cx="282600" cy="739800"/>
          </a:xfrm>
          <a:prstGeom prst="rect">
            <a:avLst/>
          </a:prstGeom>
          <a:ln w="0">
            <a:noFill/>
          </a:ln>
        </p:spPr>
      </p:pic>
      <p:sp>
        <p:nvSpPr>
          <p:cNvPr id="635" name="27 Rectángulo"/>
          <p:cNvSpPr/>
          <p:nvPr/>
        </p:nvSpPr>
        <p:spPr>
          <a:xfrm>
            <a:off x="108000" y="6021360"/>
            <a:ext cx="395280" cy="189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28 Rectángulo"/>
          <p:cNvSpPr/>
          <p:nvPr/>
        </p:nvSpPr>
        <p:spPr>
          <a:xfrm>
            <a:off x="108000" y="630864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29 Rectángulo"/>
          <p:cNvSpPr/>
          <p:nvPr/>
        </p:nvSpPr>
        <p:spPr>
          <a:xfrm>
            <a:off x="108000" y="662472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763640" y="1197000"/>
          <a:ext cx="5832720" cy="3654360"/>
        </p:xfrm>
        <a:graphic>
          <a:graphicData uri="http://schemas.openxmlformats.org/drawingml/2006/table">
            <a:tbl>
              <a:tblPr/>
              <a:tblGrid>
                <a:gridCol w="5129280"/>
                <a:gridCol w="351000"/>
                <a:gridCol w="352440"/>
              </a:tblGrid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u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3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_1  Es fácil establecer contac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61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_2  La atención es ág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_3  El personal es am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_4  Le dieron solución  a su inquietud o trám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61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_5  La información es cla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_6  El Tiempo de espera antes de ser atendido es adecu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61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_7  El tiempo de la llamada es ju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_8  El Conocimiento de la persona que atiende es apropi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_9  El menú de inicio es cla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61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_10  El menú de inicio lo lleva fácilmente a la consulta que bus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_11  Tiene un horario de atención adecu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_12  Si no respondieron su consulta lo direccionaron a donde pueden responder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1547640" y="5445000"/>
          <a:ext cx="6096240" cy="757440"/>
        </p:xfrm>
        <a:graphic>
          <a:graphicData uri="http://schemas.openxmlformats.org/drawingml/2006/table">
            <a:tbl>
              <a:tblPr/>
              <a:tblGrid>
                <a:gridCol w="5403960"/>
                <a:gridCol w="692280"/>
              </a:tblGrid>
              <a:tr h="37440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6  Cuando usted llama al Centro de Contacto Ciudadano usted prefiere que el contacto inicial s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1918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 Oper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915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 menú de opciones para elegir la opción dese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sp>
        <p:nvSpPr>
          <p:cNvPr id="640" name="32 Rectángulo"/>
          <p:cNvSpPr/>
          <p:nvPr/>
        </p:nvSpPr>
        <p:spPr>
          <a:xfrm>
            <a:off x="0" y="404640"/>
            <a:ext cx="5724360" cy="50328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33 CuadroTexto"/>
          <p:cNvSpPr/>
          <p:nvPr/>
        </p:nvSpPr>
        <p:spPr>
          <a:xfrm>
            <a:off x="31680" y="40464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C:\Users\Lalis\Desktop\Figura.png"/>
          <p:cNvPicPr/>
          <p:nvPr/>
        </p:nvPicPr>
        <p:blipFill>
          <a:blip r:embed="rId1"/>
          <a:stretch/>
        </p:blipFill>
        <p:spPr>
          <a:xfrm>
            <a:off x="8748720" y="907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1773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53400" y="6073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48720" y="2637000"/>
            <a:ext cx="282600" cy="7394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3500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53400" y="436572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48720" y="522936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44280"/>
            <a:ext cx="282600" cy="739800"/>
          </a:xfrm>
          <a:prstGeom prst="rect">
            <a:avLst/>
          </a:prstGeom>
          <a:ln w="0">
            <a:noFill/>
          </a:ln>
        </p:spPr>
      </p:pic>
      <p:sp>
        <p:nvSpPr>
          <p:cNvPr id="650" name="27 Rectángulo"/>
          <p:cNvSpPr/>
          <p:nvPr/>
        </p:nvSpPr>
        <p:spPr>
          <a:xfrm>
            <a:off x="108000" y="6021360"/>
            <a:ext cx="395280" cy="189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28 Rectángulo"/>
          <p:cNvSpPr/>
          <p:nvPr/>
        </p:nvSpPr>
        <p:spPr>
          <a:xfrm>
            <a:off x="108000" y="630864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29 Rectángulo"/>
          <p:cNvSpPr/>
          <p:nvPr/>
        </p:nvSpPr>
        <p:spPr>
          <a:xfrm>
            <a:off x="108000" y="662472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476360" y="1557360"/>
          <a:ext cx="5616720" cy="882720"/>
        </p:xfrm>
        <a:graphic>
          <a:graphicData uri="http://schemas.openxmlformats.org/drawingml/2006/table">
            <a:tbl>
              <a:tblPr/>
              <a:tblGrid>
                <a:gridCol w="4748400"/>
                <a:gridCol w="868320"/>
              </a:tblGrid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7  Antes de utilizar el Centro de Contacto Ciudadano usted prefi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car la información en las paginas web de las ent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22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amar primero al Centro de Contacto Ciudad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1476360" y="2708280"/>
          <a:ext cx="5616720" cy="1104840"/>
        </p:xfrm>
        <a:graphic>
          <a:graphicData uri="http://schemas.openxmlformats.org/drawingml/2006/table">
            <a:tbl>
              <a:tblPr/>
              <a:tblGrid>
                <a:gridCol w="4754520"/>
                <a:gridCol w="862200"/>
              </a:tblGrid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8  Que le gustaría escuchar mientras espera ser atendido en la líne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ú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22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sajes de inter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/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2195640" y="4365720"/>
          <a:ext cx="4103640" cy="873000"/>
        </p:xfrm>
        <a:graphic>
          <a:graphicData uri="http://schemas.openxmlformats.org/drawingml/2006/table">
            <a:tbl>
              <a:tblPr/>
              <a:tblGrid>
                <a:gridCol w="3576600"/>
                <a:gridCol w="527040"/>
              </a:tblGrid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unta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6501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anto es el tiempo máximo que considera usted debería esperar en la línea antes de que sea atendido?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sp>
        <p:nvSpPr>
          <p:cNvPr id="656" name="36 Rectángulo"/>
          <p:cNvSpPr/>
          <p:nvPr/>
        </p:nvSpPr>
        <p:spPr>
          <a:xfrm>
            <a:off x="0" y="404640"/>
            <a:ext cx="5724360" cy="50328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37 CuadroTexto"/>
          <p:cNvSpPr/>
          <p:nvPr/>
        </p:nvSpPr>
        <p:spPr>
          <a:xfrm>
            <a:off x="31680" y="40464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C:\Users\Lalis\Desktop\Figura.png"/>
          <p:cNvPicPr/>
          <p:nvPr/>
        </p:nvPicPr>
        <p:blipFill>
          <a:blip r:embed="rId1"/>
          <a:stretch/>
        </p:blipFill>
        <p:spPr>
          <a:xfrm>
            <a:off x="8748720" y="907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1773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53400" y="6073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48720" y="2637000"/>
            <a:ext cx="282600" cy="739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6073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48720" y="3500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53400" y="436572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522936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2" descr="C:\Users\Lalis\Desktop\Figura.png"/>
          <p:cNvPicPr/>
          <p:nvPr/>
        </p:nvPicPr>
        <p:blipFill>
          <a:blip r:embed="rId9"/>
          <a:stretch/>
        </p:blipFill>
        <p:spPr>
          <a:xfrm>
            <a:off x="8748720" y="44280"/>
            <a:ext cx="282600" cy="739800"/>
          </a:xfrm>
          <a:prstGeom prst="rect">
            <a:avLst/>
          </a:prstGeom>
          <a:ln w="0">
            <a:noFill/>
          </a:ln>
        </p:spPr>
      </p:pic>
      <p:sp>
        <p:nvSpPr>
          <p:cNvPr id="667" name="27 Rectángulo"/>
          <p:cNvSpPr/>
          <p:nvPr/>
        </p:nvSpPr>
        <p:spPr>
          <a:xfrm>
            <a:off x="108000" y="6021360"/>
            <a:ext cx="395280" cy="189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28 Rectángulo"/>
          <p:cNvSpPr/>
          <p:nvPr/>
        </p:nvSpPr>
        <p:spPr>
          <a:xfrm>
            <a:off x="108000" y="630864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29 Rectángulo"/>
          <p:cNvSpPr/>
          <p:nvPr/>
        </p:nvSpPr>
        <p:spPr>
          <a:xfrm>
            <a:off x="108000" y="662472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755640" y="765000"/>
          <a:ext cx="7488360" cy="801720"/>
        </p:xfrm>
        <a:graphic>
          <a:graphicData uri="http://schemas.openxmlformats.org/drawingml/2006/table">
            <a:tbl>
              <a:tblPr/>
              <a:tblGrid>
                <a:gridCol w="6539040"/>
                <a:gridCol w="949320"/>
              </a:tblGrid>
              <a:tr h="355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0  ¿Sabia que existe el numero 100 para contactar el Centro de Contacto Ciudada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826920" y="2046240"/>
          <a:ext cx="2664000" cy="3543480"/>
        </p:xfrm>
        <a:graphic>
          <a:graphicData uri="http://schemas.openxmlformats.org/drawingml/2006/table">
            <a:tbl>
              <a:tblPr/>
              <a:tblGrid>
                <a:gridCol w="2141640"/>
                <a:gridCol w="522360"/>
              </a:tblGrid>
              <a:tr h="265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1A ¿Cómo se enteró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CIAS TV/ PERIOD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PUBLICIDAD/POR PLIEGOS/PROPAGANDA/VOLA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O, CARTA, MENSAJES, LLAM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 PAGINA  WEB GOBIERNO EN LINEA.COM, ACCION SOCI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EL TRABAJO/EN LA EMPRE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CUER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INTERN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CIAS TV/ PERIOD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 ULTIMA ENCUES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 PERSONE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3924360" y="2060640"/>
          <a:ext cx="4248000" cy="4289400"/>
        </p:xfrm>
        <a:graphic>
          <a:graphicData uri="http://schemas.openxmlformats.org/drawingml/2006/table">
            <a:tbl>
              <a:tblPr/>
              <a:tblGrid>
                <a:gridCol w="3770280"/>
                <a:gridCol w="477720"/>
              </a:tblGrid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1B ¿A través de que medios le gustaría enterar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ABE/NO RESP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TELEVISION/NOTICIEROS ,COMERCI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CORREO ELECTRONICO/CORR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NINGU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RA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INTERN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EL TELEFONO/POR LA OPERADORA/LLAMADAS/FAX/CELUL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MENSAJES DE TEX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 PAGINA WEB/VIA WEB/POR LA PAGINA DEL GOBIE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VALLAS PUBLICITARIAS/PUBLIC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PRENSA/POR EL PERIODICO/IMPRES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S REDES SOCIALES/POR TWIT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OS RECIBOS PUBL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C:\Users\Lalis\Desktop\Figura.png"/>
          <p:cNvPicPr/>
          <p:nvPr/>
        </p:nvPicPr>
        <p:blipFill>
          <a:blip r:embed="rId1"/>
          <a:stretch/>
        </p:blipFill>
        <p:spPr>
          <a:xfrm>
            <a:off x="8748720" y="907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1773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53400" y="6073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48720" y="2637000"/>
            <a:ext cx="282600" cy="739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3500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53400" y="436572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48720" y="522936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44280"/>
            <a:ext cx="282600" cy="739800"/>
          </a:xfrm>
          <a:prstGeom prst="rect">
            <a:avLst/>
          </a:prstGeom>
          <a:ln w="0">
            <a:noFill/>
          </a:ln>
        </p:spPr>
      </p:pic>
      <p:sp>
        <p:nvSpPr>
          <p:cNvPr id="681" name="27 Rectángulo"/>
          <p:cNvSpPr/>
          <p:nvPr/>
        </p:nvSpPr>
        <p:spPr>
          <a:xfrm>
            <a:off x="108000" y="6021360"/>
            <a:ext cx="395280" cy="189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28 Rectángulo"/>
          <p:cNvSpPr/>
          <p:nvPr/>
        </p:nvSpPr>
        <p:spPr>
          <a:xfrm>
            <a:off x="108000" y="630864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29 Rectángulo"/>
          <p:cNvSpPr/>
          <p:nvPr/>
        </p:nvSpPr>
        <p:spPr>
          <a:xfrm>
            <a:off x="108000" y="662472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395280" y="1125360"/>
          <a:ext cx="3672000" cy="4835880"/>
        </p:xfrm>
        <a:graphic>
          <a:graphicData uri="http://schemas.openxmlformats.org/drawingml/2006/table">
            <a:tbl>
              <a:tblPr/>
              <a:tblGrid>
                <a:gridCol w="3252960"/>
                <a:gridCol w="419040"/>
              </a:tblGrid>
              <a:tr h="679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1 En su opinión, que otros servicios debería contemplar el Centro de Contacto Ciudadano adicionales al contacto por teléfono, fax y correo electrón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29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O/NADA/NO SE ME OCURRE OTRA OPCION/CUALQUIERA QUE SEA MAS PRECISO Y MAS FAC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9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 BIEN ASI/ES SUFICIENTE/AHÍ ESTAN TODOS LOS MEDI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1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ABE/NO RESPO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1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1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S REDES SOCIALES/POR FACEBOOK/TWIT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S DE TEXTO/SMS/POR EL CELULAR/APLICACIÓN MOV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1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/COMERCIALES EN LA RAD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1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PAGINAS WEB/INTER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442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SEA PERSONALIZADO/EN LA SUCURSAL DIRECTAMENTE/PRESENCIAL/PERSONAL/OFICINAS OFICI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9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ICOS/IMPRESIO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94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TENGAN UN CHAT/CHAT EN SKYPE/ASESORES EN LINEA/OPERADOR ON 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442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IDAD INFORMATIVA/INFORMACION POR MEDIOS PUBLICITARIOS/INFORMACION POR BOCINAS Y VOLANTES/PANCARTA PUBLICITA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9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ESCRITO/POR CARTA/INFORMACION DOMICILIA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1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DE ATENCION/PUNTOS DE ATENC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1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 EN LAS ALCALDIAS MUNICIP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4500720" y="1125360"/>
          <a:ext cx="4248000" cy="5472360"/>
        </p:xfrm>
        <a:graphic>
          <a:graphicData uri="http://schemas.openxmlformats.org/drawingml/2006/table">
            <a:tbl>
              <a:tblPr/>
              <a:tblGrid>
                <a:gridCol w="3654360"/>
                <a:gridCol w="593640"/>
              </a:tblGrid>
              <a:tr h="3715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2 ¿Que le debería ofrecer el centro de contacto ciudadano ideal, además de lo ya presentado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1969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A, EN GENERAL PRESTAN UN BUEN SERVIC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983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ABE/NO RESPOND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987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ON DE LAS ENTIDADES CLARA Y ACTUALIZAD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030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JOR SERVICIO Y ATENC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048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 AGILIDAD Y RESPUESTAS EFECTIV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23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IA, ORIENTACION/CAPACITACION AL USUARIO DE LA UTILIZACION DE LA PAGI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24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JORAR EL SERVICIO DE LLAMADAS CON SERVICIOS ADICIONALES/QUE CONTESTEN RAPIDO LAS LLAMAD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24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DAR INFORMACION SOBRE LA CIUDAD/CULTURA/PROGRAMAS DISTRIT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23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ER MAS PUNTOS DE ATENCION E INFORMAC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24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COMPROMISO CON EL CIUDADANO/AYUDA A LOS DESPLAZADOS/TENER EN CUENTA LAS NECESIDADES DEL USUAR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650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AL CORREO ENVIARAN INFORMACION IMPORTANTE/ENVIAR NOTIFICACIONES A LA CAS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63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 CLARIDAD EN EL MEN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650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 PRESENCIAL EL SERVICIO/QUE SEAN PERSONALIZADOS TODOS LOS TRAMI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969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HUBIERAN LINEAS GRATUITAS DE ATENCION AL USUAR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983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LACE DIRECTO  CON LA PERSONA REQUERID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969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EL SERVICIO SEA AGIL LOS FINES DE SEMA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983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R CON PERSONAL CAPACITADO/QUE SEAN BILINGU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001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 CLARIDAD EN LA RESPUE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983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ER UNA PAGINA WEB DONDE HAYA UNA INFORMACION CLA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969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BIR INFORMACION POR LAS REDES SOCI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sp>
        <p:nvSpPr>
          <p:cNvPr id="686" name="35 Rectángulo"/>
          <p:cNvSpPr/>
          <p:nvPr/>
        </p:nvSpPr>
        <p:spPr>
          <a:xfrm>
            <a:off x="0" y="404640"/>
            <a:ext cx="5724360" cy="50328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38 CuadroTexto"/>
          <p:cNvSpPr/>
          <p:nvPr/>
        </p:nvSpPr>
        <p:spPr>
          <a:xfrm>
            <a:off x="31680" y="40464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C:\Users\Lalis\Desktop\Figura.png"/>
          <p:cNvPicPr/>
          <p:nvPr/>
        </p:nvPicPr>
        <p:blipFill>
          <a:blip r:embed="rId1"/>
          <a:stretch/>
        </p:blipFill>
        <p:spPr>
          <a:xfrm>
            <a:off x="8748720" y="907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" descr="C:\Users\Lalis\Desktop\Figura.png"/>
          <p:cNvPicPr/>
          <p:nvPr/>
        </p:nvPicPr>
        <p:blipFill>
          <a:blip r:embed="rId2"/>
          <a:stretch/>
        </p:blipFill>
        <p:spPr>
          <a:xfrm>
            <a:off x="8748720" y="177336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" descr="C:\Users\Lalis\Desktop\Figura.png"/>
          <p:cNvPicPr/>
          <p:nvPr/>
        </p:nvPicPr>
        <p:blipFill>
          <a:blip r:embed="rId3"/>
          <a:stretch/>
        </p:blipFill>
        <p:spPr>
          <a:xfrm>
            <a:off x="8753400" y="607392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" descr="C:\Users\Lalis\Desktop\Figura.png"/>
          <p:cNvPicPr/>
          <p:nvPr/>
        </p:nvPicPr>
        <p:blipFill>
          <a:blip r:embed="rId4"/>
          <a:stretch/>
        </p:blipFill>
        <p:spPr>
          <a:xfrm>
            <a:off x="8748720" y="2637000"/>
            <a:ext cx="282600" cy="7394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C:\Users\Lalis\Desktop\Figura.png"/>
          <p:cNvPicPr/>
          <p:nvPr/>
        </p:nvPicPr>
        <p:blipFill>
          <a:blip r:embed="rId5"/>
          <a:stretch/>
        </p:blipFill>
        <p:spPr>
          <a:xfrm>
            <a:off x="8748720" y="350028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" descr="C:\Users\Lalis\Desktop\Figura.png"/>
          <p:cNvPicPr/>
          <p:nvPr/>
        </p:nvPicPr>
        <p:blipFill>
          <a:blip r:embed="rId6"/>
          <a:stretch/>
        </p:blipFill>
        <p:spPr>
          <a:xfrm>
            <a:off x="8753400" y="4365720"/>
            <a:ext cx="282600" cy="738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" descr="C:\Users\Lalis\Desktop\Figura.png"/>
          <p:cNvPicPr/>
          <p:nvPr/>
        </p:nvPicPr>
        <p:blipFill>
          <a:blip r:embed="rId7"/>
          <a:stretch/>
        </p:blipFill>
        <p:spPr>
          <a:xfrm>
            <a:off x="8748720" y="5229360"/>
            <a:ext cx="282600" cy="7398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" descr="C:\Users\Lalis\Desktop\Figura.png"/>
          <p:cNvPicPr/>
          <p:nvPr/>
        </p:nvPicPr>
        <p:blipFill>
          <a:blip r:embed="rId8"/>
          <a:stretch/>
        </p:blipFill>
        <p:spPr>
          <a:xfrm>
            <a:off x="8748720" y="44280"/>
            <a:ext cx="282600" cy="739800"/>
          </a:xfrm>
          <a:prstGeom prst="rect">
            <a:avLst/>
          </a:prstGeom>
          <a:ln w="0">
            <a:noFill/>
          </a:ln>
        </p:spPr>
      </p:pic>
      <p:sp>
        <p:nvSpPr>
          <p:cNvPr id="696" name="27 Rectángulo"/>
          <p:cNvSpPr/>
          <p:nvPr/>
        </p:nvSpPr>
        <p:spPr>
          <a:xfrm>
            <a:off x="108000" y="6021360"/>
            <a:ext cx="395280" cy="189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28 Rectángulo"/>
          <p:cNvSpPr/>
          <p:nvPr/>
        </p:nvSpPr>
        <p:spPr>
          <a:xfrm>
            <a:off x="108000" y="6308640"/>
            <a:ext cx="395280" cy="189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29 Rectángulo"/>
          <p:cNvSpPr/>
          <p:nvPr/>
        </p:nvSpPr>
        <p:spPr>
          <a:xfrm>
            <a:off x="108000" y="6624720"/>
            <a:ext cx="395280" cy="189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30 Tabla" descr=""/>
          <p:cNvPicPr/>
          <p:nvPr/>
        </p:nvPicPr>
        <p:blipFill>
          <a:blip r:embed="rId9"/>
          <a:stretch/>
        </p:blipFill>
        <p:spPr>
          <a:xfrm>
            <a:off x="1255680" y="2060640"/>
            <a:ext cx="6486480" cy="1584360"/>
          </a:xfrm>
          <a:prstGeom prst="rect">
            <a:avLst/>
          </a:prstGeom>
          <a:ln w="0">
            <a:noFill/>
          </a:ln>
        </p:spPr>
      </p:pic>
      <p:sp>
        <p:nvSpPr>
          <p:cNvPr id="700" name="32 Rectángulo"/>
          <p:cNvSpPr/>
          <p:nvPr/>
        </p:nvSpPr>
        <p:spPr>
          <a:xfrm>
            <a:off x="0" y="404640"/>
            <a:ext cx="5724360" cy="50328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34 CuadroTexto"/>
          <p:cNvSpPr/>
          <p:nvPr/>
        </p:nvSpPr>
        <p:spPr>
          <a:xfrm>
            <a:off x="31680" y="40464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21:14:30Z</dcterms:created>
  <dc:creator>Lalis</dc:creator>
  <dc:description/>
  <dc:language>en-US</dc:language>
  <cp:lastModifiedBy>INFOMETRIKA</cp:lastModifiedBy>
  <dcterms:modified xsi:type="dcterms:W3CDTF">2013-02-09T02:03:40Z</dcterms:modified>
  <cp:revision>16</cp:revision>
  <dc:subject/>
  <dc:title>Diapositiva 1</dc:title>
</cp:coreProperties>
</file>